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27.jpeg" ContentType="image/jpeg"/>
  <Override PartName="/ppt/media/image10.png" ContentType="image/png"/>
  <Override PartName="/ppt/media/image33.jpeg" ContentType="image/jpeg"/>
  <Override PartName="/ppt/media/image6.png" ContentType="image/png"/>
  <Override PartName="/ppt/media/image34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35.png" ContentType="image/png"/>
  <Override PartName="/ppt/media/image5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D1D-B078-4178-B871-8D534AB0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4A5-4EEF-4BE2-88BF-A64CC74B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C0A4-9506-43D1-808C-31880ACF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A08-5C1F-49E6-BD67-8B50BEB6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AD3E-045E-485D-9575-68C1B618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884D-EEC9-4F85-862F-06599628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7FD0-1199-4650-BD7E-93A532D7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1187-69DD-462C-9C1D-AE311283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D0C2-5147-4937-A29B-56B5FE53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FB6D-BC9A-4168-BE10-FB5AD2F6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DC84-BC45-4E9F-915F-BF38DBA9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B13-AF60-431E-9DC5-0883210D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6F85-E42F-4C0B-9FFE-8AFD361F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44C1-F357-4027-A1AC-5599B628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F906-5292-48F4-A2F8-8964357C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C962-C85E-4121-8081-658A2E4D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6A7A-609B-4AB6-A3B5-A375381F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72BEA8-0F34-4958-8B49-F7C43320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BF6C23-9456-4477-BBDF-3EAF46BB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7EA1F-D045-48C7-8D00-FC5976DE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03D528-5CCD-4EFA-9EE6-852BE329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E0B1E-B56A-4C77-AC66-8F82E9C0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4CB1-1687-49D8-BAFC-675500BB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DD28F-3098-4AEF-9007-CF172A51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F7950-3BE2-405A-B514-60AE2612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FC088-4646-4F52-89D8-4C9BD98E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052D1-81F5-4BC0-9F8B-C6A2BE65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DA886A-69CA-4F79-8855-0F6C78A6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3FEC6-BCB7-4281-9C95-5A334A3D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F89FF-0B45-4FF1-86F2-77ABDAD9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F8C59-B538-492B-A395-4673F0F0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2C428-9A62-48B1-9A62-DC0CA9FA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51911-B540-49EB-929C-94273EDF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87D-AD18-4BBA-B9D5-0EBF0B19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3F590-0507-4BC7-8882-85285958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D3661-A8BA-4E0E-A4CE-04253FE1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4DE86-F6AE-4899-9C84-986988C3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13D6D-49B2-464D-8604-43685E4D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7125E-563D-447F-90F8-0C58DA52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2B4DA-74BB-4264-B412-B9D6CA7D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DD619-ACF4-43AE-BCFC-63F85A24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D966C-D049-48EF-9521-7A0D3760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5AF03-A276-4639-9D77-69341350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725-4101-4316-AB7D-823AC63F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FBE2-083D-4B0F-8185-38A4F4F1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D7D-FB05-45BB-8F6F-9FB2188A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1AC1-A0DD-44B3-A0F9-8CA6EE5A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4075-FADE-4E53-8E8D-B47F4986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F571-89AB-42A9-BF2E-737DD8D3518D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0674-0650-4089-8810-169D7832848E}" type="slidenum">
              <a:rPr b="0" lang="en-US" sz="1200" spc="-1" strike="noStrike">
                <a:solidFill>
                  <a:srgbClr val="94c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345B-BE76-4E0B-B5BA-72A78D4F1890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7673-46DC-419C-9F46-AB2786FDD1BC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4"/>
          <p:cNvSpPr/>
          <p:nvPr/>
        </p:nvSpPr>
        <p:spPr>
          <a:xfrm>
            <a:off x="1116000" y="62064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Verdana"/>
              </a:rPr>
              <a:t>LA CELULA: UNIDAD DE VI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826920" y="321300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 Extra Bold"/>
              </a:rPr>
              <a:t>TEMA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Figaro.mp3" descr=""/>
          <p:cNvPicPr/>
          <p:nvPr/>
        </p:nvPicPr>
        <p:blipFill>
          <a:blip r:embed="rId1"/>
          <a:stretch/>
        </p:blipFill>
        <p:spPr>
          <a:xfrm>
            <a:off x="95400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826920" y="333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Rockwell Extra Bold"/>
              </a:rPr>
              <a:t>Célula an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5" descr="celula_animal[1]"/>
          <p:cNvPicPr/>
          <p:nvPr/>
        </p:nvPicPr>
        <p:blipFill>
          <a:blip r:embed="rId1"/>
          <a:stretch/>
        </p:blipFill>
        <p:spPr>
          <a:xfrm>
            <a:off x="1116000" y="907920"/>
            <a:ext cx="6912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4"/>
          <p:cNvSpPr/>
          <p:nvPr/>
        </p:nvSpPr>
        <p:spPr>
          <a:xfrm>
            <a:off x="755640" y="333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Rockwell Extra Bold"/>
              </a:rPr>
              <a:t>Célula veg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celulavegetal01A[1]"/>
          <p:cNvPicPr/>
          <p:nvPr/>
        </p:nvPicPr>
        <p:blipFill>
          <a:blip r:embed="rId1"/>
          <a:stretch/>
        </p:blipFill>
        <p:spPr>
          <a:xfrm>
            <a:off x="1116000" y="907920"/>
            <a:ext cx="691344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611280" y="333360"/>
            <a:ext cx="79214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Rockwell Extra Bold"/>
              </a:rPr>
              <a:t>Orgánulos animales</a:t>
            </a: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   </a:t>
            </a: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Centriolos: </a:t>
            </a:r>
            <a:r>
              <a:rPr b="1" lang="es-ES" sz="2000" spc="-1" strike="noStrike">
                <a:solidFill>
                  <a:srgbClr val="000000"/>
                </a:solidFill>
                <a:latin typeface="Rockwell Extra Bold"/>
              </a:rPr>
              <a:t>se encargan de dirigir los movimientos de los filamentos del citoesquel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7" descr="centriolos[1]"/>
          <p:cNvPicPr/>
          <p:nvPr/>
        </p:nvPicPr>
        <p:blipFill>
          <a:blip r:embed="rId1"/>
          <a:stretch/>
        </p:blipFill>
        <p:spPr>
          <a:xfrm>
            <a:off x="3995640" y="1989000"/>
            <a:ext cx="39052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4"/>
          <p:cNvSpPr/>
          <p:nvPr/>
        </p:nvSpPr>
        <p:spPr>
          <a:xfrm>
            <a:off x="395280" y="404640"/>
            <a:ext cx="4968720" cy="57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Rockwell Extra Bold"/>
              </a:rPr>
              <a:t>Orgánulos veget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Vacuolas: 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son grandes bolsas que contienen agua con sustancias disuel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Pared celular: 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cubierta rígida y y gruesa con membrana plasmática por fuera y po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Cloroplastos: 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contienen la clorofila y se realiza la fotosínt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5" descr="cloroplasto[1]"/>
          <p:cNvPicPr/>
          <p:nvPr/>
        </p:nvPicPr>
        <p:blipFill>
          <a:blip r:embed="rId1"/>
          <a:stretch/>
        </p:blipFill>
        <p:spPr>
          <a:xfrm>
            <a:off x="5580000" y="4365720"/>
            <a:ext cx="3097440" cy="2319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20070417klpcnavid_24"/>
          <p:cNvPicPr/>
          <p:nvPr/>
        </p:nvPicPr>
        <p:blipFill>
          <a:blip r:embed="rId2"/>
          <a:stretch/>
        </p:blipFill>
        <p:spPr>
          <a:xfrm>
            <a:off x="1116000" y="3573360"/>
            <a:ext cx="2735280" cy="1805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vacuola[1]"/>
          <p:cNvPicPr/>
          <p:nvPr/>
        </p:nvPicPr>
        <p:blipFill>
          <a:blip r:embed="rId3"/>
          <a:stretch/>
        </p:blipFill>
        <p:spPr>
          <a:xfrm>
            <a:off x="5580000" y="404640"/>
            <a:ext cx="2602080" cy="33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395280" y="549360"/>
            <a:ext cx="547380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Orgánulos animales y veget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Citoesqueleto:</a:t>
            </a:r>
            <a:r>
              <a:rPr b="1" lang="es-ES" sz="2000" spc="-1" strike="noStrike">
                <a:solidFill>
                  <a:srgbClr val="000000"/>
                </a:solidFill>
                <a:latin typeface="Rockwell Extra Bold"/>
              </a:rPr>
              <a:t> filamentos distribuidos formando una red por todo el citoplas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Lisosomas: </a:t>
            </a:r>
            <a:r>
              <a:rPr b="1" lang="es-ES" sz="2000" spc="-1" strike="noStrike">
                <a:solidFill>
                  <a:srgbClr val="000000"/>
                </a:solidFill>
                <a:latin typeface="Rockwell Extra Bold"/>
              </a:rPr>
              <a:t>vesículas membranosas donde se produce la digestión cel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Mitocondrias: </a:t>
            </a:r>
            <a:r>
              <a:rPr b="1" lang="es-ES" sz="2000" spc="-1" strike="noStrike">
                <a:solidFill>
                  <a:srgbClr val="000000"/>
                </a:solidFill>
                <a:latin typeface="Rockwell Extra Bold"/>
              </a:rPr>
              <a:t>encargados de obtener energía para las funciones cel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5" descr="220px-MEF_microfilaments[1]"/>
          <p:cNvPicPr/>
          <p:nvPr/>
        </p:nvPicPr>
        <p:blipFill>
          <a:blip r:embed="rId1"/>
          <a:stretch/>
        </p:blipFill>
        <p:spPr>
          <a:xfrm>
            <a:off x="6084720" y="765000"/>
            <a:ext cx="2587680" cy="19400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CelLisosoma2[1]"/>
          <p:cNvPicPr/>
          <p:nvPr/>
        </p:nvPicPr>
        <p:blipFill>
          <a:blip r:embed="rId2"/>
          <a:stretch/>
        </p:blipFill>
        <p:spPr>
          <a:xfrm>
            <a:off x="1547640" y="3141720"/>
            <a:ext cx="2897280" cy="1655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mitocondrias_descricao01[1]"/>
          <p:cNvPicPr/>
          <p:nvPr/>
        </p:nvPicPr>
        <p:blipFill>
          <a:blip r:embed="rId3"/>
          <a:stretch/>
        </p:blipFill>
        <p:spPr>
          <a:xfrm>
            <a:off x="5508720" y="4106880"/>
            <a:ext cx="36352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611280" y="476280"/>
            <a:ext cx="374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Aparato de Golgi: </a:t>
            </a:r>
            <a:r>
              <a:rPr b="1" lang="es-ES" sz="2000" spc="-1" strike="noStrike">
                <a:solidFill>
                  <a:srgbClr val="000000"/>
                </a:solidFill>
                <a:latin typeface="Rockwell Extra Bold"/>
              </a:rPr>
              <a:t>formado por pilas de sacos membranosos aplastados, que están rodeados de vesículas, a éstas se incorporan productos que la célula fabrica en el retíc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4859280" y="3284640"/>
            <a:ext cx="388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0" lang="es-ES" sz="2000" spc="-1" strike="noStrike">
                <a:solidFill>
                  <a:srgbClr val="006600"/>
                </a:solidFill>
                <a:latin typeface="Rockwell Extra Bold"/>
              </a:rPr>
              <a:t>Retículo endoplasmático: </a:t>
            </a:r>
            <a:r>
              <a:rPr b="0" lang="es-ES" sz="2000" spc="-1" strike="noStrike">
                <a:solidFill>
                  <a:srgbClr val="000000"/>
                </a:solidFill>
                <a:latin typeface="Rockwell Extra Bold"/>
              </a:rPr>
              <a:t>conjunto de sacos y canales membranosos, comunicados entre sí, está por todo el citoplasma. Pueden llevar rugosidades granosas adosadas llamadas riboso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6" descr="Retículo-Endoplasmático[1]"/>
          <p:cNvPicPr/>
          <p:nvPr/>
        </p:nvPicPr>
        <p:blipFill>
          <a:blip r:embed="rId1"/>
          <a:stretch/>
        </p:blipFill>
        <p:spPr>
          <a:xfrm>
            <a:off x="611280" y="35002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golgi[1]"/>
          <p:cNvPicPr/>
          <p:nvPr/>
        </p:nvPicPr>
        <p:blipFill>
          <a:blip r:embed="rId2"/>
          <a:stretch/>
        </p:blipFill>
        <p:spPr>
          <a:xfrm>
            <a:off x="5076720" y="404640"/>
            <a:ext cx="2881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4"/>
          <p:cNvSpPr/>
          <p:nvPr/>
        </p:nvSpPr>
        <p:spPr>
          <a:xfrm>
            <a:off x="611280" y="404640"/>
            <a:ext cx="7705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Ciclo cel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Período entre el nacimiento de una célula hasta que ésta tiene hijos. Consta de 2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Interfase: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 la célula nace y se hace adu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1547640" y="2276640"/>
            <a:ext cx="604872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Núcle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Envoltura nuclear: 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doble membrana que separa el interior nuclear del citoplasma. Tiene poros para intercambio de susta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Cromatina: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 maraña de fibrillas fácil de ti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Nucleolo: 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esférico y teñido, en ellos se fabrican los ribosomas, hay uno o m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4"/>
          <p:cNvSpPr/>
          <p:nvPr/>
        </p:nvSpPr>
        <p:spPr>
          <a:xfrm>
            <a:off x="1116000" y="83664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Rockwell Extra Bold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Fase de división: 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la célula se reprodu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2340000" y="1557360"/>
            <a:ext cx="6048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Núcle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Cromosomas: 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filamentos de cromatina condensados, más gruesos y cor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3635280" y="3213000"/>
            <a:ext cx="46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   </a:t>
            </a: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Cromátidas: </a:t>
            </a:r>
            <a:r>
              <a:rPr b="1" lang="es-ES" sz="2000" spc="-1" strike="noStrike">
                <a:solidFill>
                  <a:srgbClr val="000000"/>
                </a:solidFill>
                <a:latin typeface="Rockwell Extra Bold"/>
              </a:rPr>
              <a:t>cromosomas duplicados unidos por el centróme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cromosoma01[1]"/>
          <p:cNvPicPr/>
          <p:nvPr/>
        </p:nvPicPr>
        <p:blipFill>
          <a:blip r:embed="rId1"/>
          <a:stretch/>
        </p:blipFill>
        <p:spPr>
          <a:xfrm>
            <a:off x="0" y="3691080"/>
            <a:ext cx="3492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4"/>
          <p:cNvSpPr/>
          <p:nvPr/>
        </p:nvSpPr>
        <p:spPr>
          <a:xfrm>
            <a:off x="1187280" y="83664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5640" y="47628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Rockwell Extra Bold"/>
              </a:rPr>
              <a:t>Reproducción celul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332000" y="1197000"/>
            <a:ext cx="7200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División del núcleo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: tiene que ser equitativa y se realiza mediante la mito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División del citoplasma: 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no es necesario que sea equitativo, porque la puede aumentar después por sí misma y se divide de forma diferente dependiendo de si la célula es animal o vege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2195640" y="3645000"/>
            <a:ext cx="5976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Célula animal: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 se produce una división por estrangulamiento progresivo del citoplasma y termina separando a las 2 células hi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Célula vegetal: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 entre los 2 núcleos hijos se construye un tabique que formará la pared celular de los dos hi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5"/>
          <p:cNvSpPr/>
          <p:nvPr/>
        </p:nvSpPr>
        <p:spPr>
          <a:xfrm>
            <a:off x="900000" y="1268280"/>
            <a:ext cx="77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La nutrición de las células se clasifica según la forma en que estas consiguen los compuestos orgánicos que necesit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684360" y="2708280"/>
            <a:ext cx="5040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Si la célula crea su propia materia orgánica, decimos que es una célula autótrof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En la fotosíntesis de las células vegetales verdes, los cloroplastos generan la </a:t>
            </a:r>
            <a:r>
              <a:rPr b="0" lang="en-US" sz="2000" spc="-1" strike="noStrike">
                <a:solidFill>
                  <a:srgbClr val="006600"/>
                </a:solidFill>
                <a:latin typeface="Rockwell Extra Bold"/>
              </a:rPr>
              <a:t>clorofila</a:t>
            </a: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, una sustancia capaz de captar la energía solar y transformar los nutrientes inorgánicos de esta, en orgánicos y listos para alimentar a las célu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7" descr="mo-cloroplastoscel"/>
          <p:cNvPicPr/>
          <p:nvPr/>
        </p:nvPicPr>
        <p:blipFill>
          <a:blip r:embed="rId1"/>
          <a:stretch/>
        </p:blipFill>
        <p:spPr>
          <a:xfrm>
            <a:off x="5940360" y="3213000"/>
            <a:ext cx="2868840" cy="2133720"/>
          </a:xfrm>
          <a:prstGeom prst="rect">
            <a:avLst/>
          </a:prstGeom>
          <a:ln w="0">
            <a:noFill/>
          </a:ln>
        </p:spPr>
      </p:pic>
      <p:sp>
        <p:nvSpPr>
          <p:cNvPr id="383" name="WordArt 9"/>
          <p:cNvSpPr txBox="1"/>
          <p:nvPr/>
        </p:nvSpPr>
        <p:spPr>
          <a:xfrm>
            <a:off x="1763640" y="620640"/>
            <a:ext cx="49910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Black"/>
              </a:rPr>
              <a:t>La Nutrición Celul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611280" y="549360"/>
            <a:ext cx="806436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Rockwell Extra Bold"/>
              </a:rPr>
              <a:t>El comienzo de una revo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Hasta principios del siglo XIX, se admitía que la materia que forma un ser vivo se organizaba en tres nive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Rockwell Extra Bold"/>
              </a:rPr>
              <a:t>Nivel superior:</a:t>
            </a: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 lo constituían los órganos, estructuras organizadas y bien separadas unas de o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Rockwell Extra Bold"/>
              </a:rPr>
              <a:t>Segundo nivel:</a:t>
            </a: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 Lo constituían los teji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Rockwell Extra Bold"/>
              </a:rPr>
              <a:t>El nivel inferior:</a:t>
            </a: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 Lo constituía un material de aspecto amorfo, sin ningún tipo de organiz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El microscopio permitió observas con más detalle este último nivel y supuso el comienzo de una revolución que cambió por completo el estudio de los seres v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"/>
          <p:cNvSpPr/>
          <p:nvPr/>
        </p:nvSpPr>
        <p:spPr>
          <a:xfrm>
            <a:off x="826920" y="765000"/>
            <a:ext cx="7777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Si por el contrario la célula recibe la materia orgánica del exterior, la célula será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heterótrofa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Normalmente llega ya digerida a la célula en forma de pequeñas moléculas a través de la sangre. En otros casos, como en los glóbulos blancos, las células ingieren grandes moléculas orgánicas que son digeridas en el interior de la célula, en los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lisoso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5" descr="lisosoma%201"/>
          <p:cNvPicPr/>
          <p:nvPr/>
        </p:nvPicPr>
        <p:blipFill>
          <a:blip r:embed="rId1"/>
          <a:srcRect l="0" t="28693" r="0" b="0"/>
          <a:stretch/>
        </p:blipFill>
        <p:spPr>
          <a:xfrm>
            <a:off x="1547640" y="3573360"/>
            <a:ext cx="62643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WordArt 4"/>
          <p:cNvSpPr txBox="1"/>
          <p:nvPr/>
        </p:nvSpPr>
        <p:spPr>
          <a:xfrm>
            <a:off x="1547640" y="404640"/>
            <a:ext cx="583884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Black"/>
              </a:rPr>
              <a:t>La Función de Rela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Black"/>
              <a:ea typeface="Arial Black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468360" y="981000"/>
            <a:ext cx="81360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Las células elaboran respuestas ante los estímulos del exterior, normalmente estas respuestas son de movimiento y los encargados de que se lleve a cabo serán los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filamentos del cito esquele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Hay tres tipos de movimie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Movimiento vibrátil: 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Lo producen dos tipos de prolongaciones móv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6" descr="ciliados"/>
          <p:cNvPicPr/>
          <p:nvPr/>
        </p:nvPicPr>
        <p:blipFill>
          <a:blip r:embed="rId1"/>
          <a:stretch/>
        </p:blipFill>
        <p:spPr>
          <a:xfrm>
            <a:off x="5724360" y="3284640"/>
            <a:ext cx="2930760" cy="1714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espermatozoide"/>
          <p:cNvPicPr/>
          <p:nvPr/>
        </p:nvPicPr>
        <p:blipFill>
          <a:blip r:embed="rId2"/>
          <a:srcRect l="27336" t="22285" r="17878" b="9662"/>
          <a:stretch/>
        </p:blipFill>
        <p:spPr>
          <a:xfrm>
            <a:off x="6156360" y="5084640"/>
            <a:ext cx="1655640" cy="154332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8"/>
          <p:cNvSpPr/>
          <p:nvPr/>
        </p:nvSpPr>
        <p:spPr>
          <a:xfrm>
            <a:off x="971640" y="3573360"/>
            <a:ext cx="4680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  <a:ea typeface="Arial"/>
              </a:rPr>
              <a:t>-Los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  <a:ea typeface="Arial"/>
              </a:rPr>
              <a:t>cilios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  <a:ea typeface="Arial"/>
              </a:rPr>
              <a:t>. Tienen aspecto de pelo  y recubren la superficie de las  célu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1476360" y="465300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ckwell Extra Bold"/>
              </a:rPr>
              <a:t>-Los </a:t>
            </a:r>
            <a:r>
              <a:rPr b="1" lang="en-US" sz="1800" spc="-1" strike="noStrike">
                <a:solidFill>
                  <a:srgbClr val="006600"/>
                </a:solidFill>
                <a:latin typeface="Rockwell Extra Bold"/>
              </a:rPr>
              <a:t>flagelos</a:t>
            </a:r>
            <a:r>
              <a:rPr b="1" lang="en-US" sz="1800" spc="-1" strike="noStrike">
                <a:solidFill>
                  <a:srgbClr val="000000"/>
                </a:solidFill>
                <a:latin typeface="Rockwell Extra Bold"/>
              </a:rPr>
              <a:t>. Tienen aspecto de  látigo y se presentan aislados ó en  un número reducido. Los espermatozoides se desplazan  gracias a su flag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4"/>
          <p:cNvSpPr/>
          <p:nvPr/>
        </p:nvSpPr>
        <p:spPr>
          <a:xfrm>
            <a:off x="539640" y="260280"/>
            <a:ext cx="828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Movimiento ameboideo: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 Es característico de las amebas pero también se produce en los glóbulos blancos. En este caso, para desplazarse, la célula extiende unas prolongaciones (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seudópodos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) procedentes del citoplasma a cualquier punto de su superficie. Este movimiento es posible debido a la capacidad de contraerse del cito esquel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5" descr="ameba"/>
          <p:cNvPicPr/>
          <p:nvPr/>
        </p:nvPicPr>
        <p:blipFill>
          <a:blip r:embed="rId1"/>
          <a:stretch/>
        </p:blipFill>
        <p:spPr>
          <a:xfrm>
            <a:off x="2484360" y="2492280"/>
            <a:ext cx="3240000" cy="19303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crayones"/>
          <p:cNvPicPr/>
          <p:nvPr/>
        </p:nvPicPr>
        <p:blipFill>
          <a:blip r:embed="rId2"/>
          <a:stretch/>
        </p:blipFill>
        <p:spPr>
          <a:xfrm>
            <a:off x="6156360" y="4468680"/>
            <a:ext cx="2987640" cy="238932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7"/>
          <p:cNvSpPr/>
          <p:nvPr/>
        </p:nvSpPr>
        <p:spPr>
          <a:xfrm>
            <a:off x="250920" y="4643280"/>
            <a:ext cx="5892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Movimiento contráctil: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 Estas células (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fibras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) contienen en su interior un gran número de filamentos del cito esqueleto  dispuestos de forma paralela. La célula se contrae o se relaja a medida que los filamentos se deslizan unos sob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hape 47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os seres vivos más peque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hape 48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hape 47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os seres vivos más peque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hape 48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CROORGANISMOS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1" name="Shape 54"/>
          <p:cNvSpPr/>
          <p:nvPr/>
        </p:nvSpPr>
        <p:spPr>
          <a:xfrm>
            <a:off x="826920" y="1773360"/>
            <a:ext cx="32403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quel que sólo puede ser visto al microsco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hape 55"/>
          <p:cNvSpPr/>
          <p:nvPr/>
        </p:nvSpPr>
        <p:spPr>
          <a:xfrm>
            <a:off x="4427640" y="1916280"/>
            <a:ext cx="1728720" cy="288720"/>
          </a:xfrm>
          <a:prstGeom prst="rightArrow">
            <a:avLst>
              <a:gd name="adj1" fmla="val 19796"/>
              <a:gd name="adj2" fmla="val 50035"/>
            </a:avLst>
          </a:prstGeom>
          <a:solidFill>
            <a:srgbClr val="94c6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11160" bIns="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hape 56"/>
          <p:cNvSpPr/>
          <p:nvPr/>
        </p:nvSpPr>
        <p:spPr>
          <a:xfrm>
            <a:off x="6588000" y="1628640"/>
            <a:ext cx="208764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EDEN SER SERES V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acte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toct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hape 57"/>
          <p:cNvSpPr/>
          <p:nvPr/>
        </p:nvSpPr>
        <p:spPr>
          <a:xfrm>
            <a:off x="1979640" y="2637000"/>
            <a:ext cx="360360" cy="1439640"/>
          </a:xfrm>
          <a:prstGeom prst="downArrow">
            <a:avLst>
              <a:gd name="adj1" fmla="val 18898"/>
              <a:gd name="adj2" fmla="val 49993"/>
            </a:avLst>
          </a:prstGeom>
          <a:solidFill>
            <a:srgbClr val="94c6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hape 58"/>
          <p:cNvSpPr/>
          <p:nvPr/>
        </p:nvSpPr>
        <p:spPr>
          <a:xfrm>
            <a:off x="934920" y="4437000"/>
            <a:ext cx="2808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RUS: SERES ACELULARES PARÁSITOS OBLIG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NO PROTOCTISTA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Shape 64"/>
          <p:cNvSpPr/>
          <p:nvPr/>
        </p:nvSpPr>
        <p:spPr>
          <a:xfrm>
            <a:off x="3286080" y="1484280"/>
            <a:ext cx="585792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e grupo heterogéneo incluye una serie de organismo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ucariótic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nicelular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o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ricelular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pero sin verdaderos tej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eden ser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tótrof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g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o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terótrof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tozo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een reproducció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sexu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y/o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xu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Shape 65" descr=""/>
          <p:cNvPicPr/>
          <p:nvPr/>
        </p:nvPicPr>
        <p:blipFill>
          <a:blip r:embed="rId1"/>
          <a:stretch/>
        </p:blipFill>
        <p:spPr>
          <a:xfrm>
            <a:off x="142920" y="2214720"/>
            <a:ext cx="314316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zoos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0" name="Shape 71"/>
          <p:cNvSpPr/>
          <p:nvPr/>
        </p:nvSpPr>
        <p:spPr>
          <a:xfrm>
            <a:off x="1042920" y="1353960"/>
            <a:ext cx="7345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nicel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ucariotas anim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terótrofos  (no fotosínte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 pared cel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eden ser de vida libre pero algunos son parásitos (enfermedad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bitar predominantemente en agua dulce o marina pero también los hay de su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 mueven por cilios, flagelos o pseudópodos. SE CLASIFICAN POR SU MOVIMIENTO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AGELADOS: VORTIC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ILIADOS: PARAM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SEUDÓPODOS: AME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ÉSILES: (muchos de los que son parási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izópodos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12" name="Shape 95" descr=""/>
          <p:cNvPicPr/>
          <p:nvPr/>
        </p:nvPicPr>
        <p:blipFill>
          <a:blip r:embed="rId1"/>
          <a:stretch/>
        </p:blipFill>
        <p:spPr>
          <a:xfrm>
            <a:off x="179280" y="2139840"/>
            <a:ext cx="4372200" cy="2943360"/>
          </a:xfrm>
          <a:prstGeom prst="rect">
            <a:avLst/>
          </a:prstGeom>
          <a:ln w="0">
            <a:noFill/>
          </a:ln>
        </p:spPr>
      </p:pic>
      <p:sp>
        <p:nvSpPr>
          <p:cNvPr id="413" name="Shape 96"/>
          <p:cNvSpPr/>
          <p:nvPr/>
        </p:nvSpPr>
        <p:spPr>
          <a:xfrm>
            <a:off x="4695840" y="1700280"/>
            <a:ext cx="42926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 mu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r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seudópod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(movimiento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meboid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 En este grupo se incluyen las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meb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desnudas, y los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aminífer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con con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s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meb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suelen ser de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da lib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pero también las hay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aprofit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o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tógenas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ganismo capaz de causar una enfermedad), causantes de diar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aminífer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son organismos marinos y presentan conchas de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bonato cálcic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uando las conchas sedimentan forman rocas caliz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hape 97"/>
          <p:cNvSpPr/>
          <p:nvPr/>
        </p:nvSpPr>
        <p:spPr>
          <a:xfrm>
            <a:off x="468360" y="5229360"/>
            <a:ext cx="3049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aminífero.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mmonia tep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sporozoos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6" name="Shape 103"/>
          <p:cNvSpPr/>
          <p:nvPr/>
        </p:nvSpPr>
        <p:spPr>
          <a:xfrm>
            <a:off x="395280" y="1700280"/>
            <a:ext cx="417672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n protozoos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ásitos obligad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e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móvil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 nombre se debe al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do de reproducción, aunque no forman esporas propiamente dicha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 agente causante de la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lari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o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ludism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es el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smodi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smodium falcipar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parasita a los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lóbulos roj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y es transmitido por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icadura del mosquito Anophe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Shape 104" descr=""/>
          <p:cNvPicPr/>
          <p:nvPr/>
        </p:nvPicPr>
        <p:blipFill>
          <a:blip r:embed="rId1"/>
          <a:stretch/>
        </p:blipFill>
        <p:spPr>
          <a:xfrm>
            <a:off x="5651640" y="2209680"/>
            <a:ext cx="2876400" cy="2552760"/>
          </a:xfrm>
          <a:prstGeom prst="rect">
            <a:avLst/>
          </a:prstGeom>
          <a:ln w="0">
            <a:noFill/>
          </a:ln>
        </p:spPr>
      </p:pic>
      <p:sp>
        <p:nvSpPr>
          <p:cNvPr id="418" name="Shape 105"/>
          <p:cNvSpPr/>
          <p:nvPr/>
        </p:nvSpPr>
        <p:spPr>
          <a:xfrm>
            <a:off x="5862600" y="497520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lasmodium falcipar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s: flagelados 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20" name="Shape 77" descr=""/>
          <p:cNvPicPr/>
          <p:nvPr/>
        </p:nvPicPr>
        <p:blipFill>
          <a:blip r:embed="rId1"/>
          <a:stretch/>
        </p:blipFill>
        <p:spPr>
          <a:xfrm>
            <a:off x="571680" y="2357280"/>
            <a:ext cx="3333600" cy="2362320"/>
          </a:xfrm>
          <a:prstGeom prst="rect">
            <a:avLst/>
          </a:prstGeom>
          <a:ln w="0">
            <a:noFill/>
          </a:ln>
        </p:spPr>
      </p:pic>
      <p:sp>
        <p:nvSpPr>
          <p:cNvPr id="421" name="Shape 78"/>
          <p:cNvSpPr/>
          <p:nvPr/>
        </p:nvSpPr>
        <p:spPr>
          <a:xfrm>
            <a:off x="4643280" y="1428840"/>
            <a:ext cx="4248360" cy="44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n móviles mediante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agel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Muchos de ellos son de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da lib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pero en este grupo se incluyen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ásit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del hombre y de otros anim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 más importante es el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ripanosom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(Trypa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nosoma,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pecialmente el africano Trypa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nosoma gambiensis),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usante de la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nfermedad del sueñ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Este parásito se transmite por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icadura de la mosca tse-ts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El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tozo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se multiplica en el intestino del insecto y pasa luego desde las glándulas salivares de la mosca a la sangre de la persona. Ya en el ser humano,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tac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el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istema nervios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y causa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flamación del cerebro y de la médula esp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hape 79"/>
          <p:cNvSpPr/>
          <p:nvPr/>
        </p:nvSpPr>
        <p:spPr>
          <a:xfrm>
            <a:off x="1000080" y="164304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rypanosoma bruc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Imagen 1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4176720" cy="4176720"/>
          </a:xfrm>
          <a:prstGeom prst="rect">
            <a:avLst/>
          </a:prstGeom>
          <a:ln w="0">
            <a:noFill/>
          </a:ln>
        </p:spPr>
      </p:pic>
      <p:pic>
        <p:nvPicPr>
          <p:cNvPr id="340" name="Imagen 4" descr=""/>
          <p:cNvPicPr/>
          <p:nvPr/>
        </p:nvPicPr>
        <p:blipFill>
          <a:blip r:embed="rId2"/>
          <a:stretch/>
        </p:blipFill>
        <p:spPr>
          <a:xfrm>
            <a:off x="5292720" y="1844640"/>
            <a:ext cx="3298680" cy="44100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6"/>
          <p:cNvSpPr/>
          <p:nvPr/>
        </p:nvSpPr>
        <p:spPr>
          <a:xfrm>
            <a:off x="755640" y="70056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Este tipo de microscopio recibe el nombre de microscopio óptico o microscopio compuesto  mientras que un microscopio simple solo tendría una lente como una lu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liados 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24" name="Shape 85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638520" cy="3492360"/>
          </a:xfrm>
          <a:prstGeom prst="rect">
            <a:avLst/>
          </a:prstGeom>
          <a:ln w="0">
            <a:noFill/>
          </a:ln>
        </p:spPr>
      </p:pic>
      <p:sp>
        <p:nvSpPr>
          <p:cNvPr id="425" name="Shape 86"/>
          <p:cNvSpPr/>
          <p:nvPr/>
        </p:nvSpPr>
        <p:spPr>
          <a:xfrm>
            <a:off x="4572000" y="1357200"/>
            <a:ext cx="45720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n protozoos que en alguna fase de su ciclo 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esentan cilio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n parásitos o de 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ida libr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mbién hay 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imbiont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como los que habitan en el 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umen (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te del estómago) de los 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umiant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o en el 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ub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igestiv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de las 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rmita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o de los ciliados mejor conocido es el paramecio 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Paramecium)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iene forma de suela de zapa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hape 87"/>
          <p:cNvSpPr/>
          <p:nvPr/>
        </p:nvSpPr>
        <p:spPr>
          <a:xfrm>
            <a:off x="1258920" y="5157720"/>
            <a:ext cx="13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aramec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Shape 88" descr=""/>
          <p:cNvPicPr/>
          <p:nvPr/>
        </p:nvPicPr>
        <p:blipFill>
          <a:blip r:embed="rId2"/>
          <a:stretch/>
        </p:blipFill>
        <p:spPr>
          <a:xfrm>
            <a:off x="4857840" y="4071960"/>
            <a:ext cx="2343240" cy="2025720"/>
          </a:xfrm>
          <a:prstGeom prst="rect">
            <a:avLst/>
          </a:prstGeom>
          <a:ln w="0">
            <a:noFill/>
          </a:ln>
        </p:spPr>
      </p:pic>
      <p:sp>
        <p:nvSpPr>
          <p:cNvPr id="428" name="Shape 89"/>
          <p:cNvSpPr/>
          <p:nvPr/>
        </p:nvSpPr>
        <p:spPr>
          <a:xfrm>
            <a:off x="7429680" y="5000760"/>
            <a:ext cx="13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rtic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IA DE LAS ALGAS: arrecifes de coral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30" name="Shape 142" descr=""/>
          <p:cNvPicPr/>
          <p:nvPr/>
        </p:nvPicPr>
        <p:blipFill>
          <a:blip r:embed="rId1"/>
          <a:stretch/>
        </p:blipFill>
        <p:spPr>
          <a:xfrm>
            <a:off x="357120" y="185724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431" name="Shape 143" descr=""/>
          <p:cNvPicPr/>
          <p:nvPr/>
        </p:nvPicPr>
        <p:blipFill>
          <a:blip r:embed="rId2"/>
          <a:stretch/>
        </p:blipFill>
        <p:spPr>
          <a:xfrm>
            <a:off x="5072040" y="3357720"/>
            <a:ext cx="3494160" cy="27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as 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3" name="Shape 111"/>
          <p:cNvSpPr/>
          <p:nvPr/>
        </p:nvSpPr>
        <p:spPr>
          <a:xfrm>
            <a:off x="571680" y="1357200"/>
            <a:ext cx="80010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s algas son organismos eucarióticos que realizan la fotosínt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eden se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NICELULARES O PLURICEL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esentan diversas morfologí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y tam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enen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élulas semejantes a las vegetal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pero se diferencian de las plantas porque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ecen de verdaderos tejid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son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alofitas* (talo: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erpo vegetativo sin verdaderos tejidos)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das ellas viven en el medio acuático, dulce o marino, flotando (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ctónic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o fijadas al sustrato, (Suelo) (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ntónic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 realizar la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tosíntesi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las algas poseen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orofil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 color verd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y otros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igment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de color diverso, desde el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oj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hasta el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rró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rven de alimento a muchos animales (fitoplancton). Se utilizan en alimnetación como ESPESANTE (HELADOS) O como MEDICAMENTOS (farmacéu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hape 121"/>
          <p:cNvSpPr/>
          <p:nvPr/>
        </p:nvSpPr>
        <p:spPr>
          <a:xfrm>
            <a:off x="1476360" y="1413000"/>
            <a:ext cx="655164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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n unicelula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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otan en el agua formando parte del fitoplanc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organismos muy pequeños que flotan en el agu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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elen tener forma alargada y decor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Las EUGLENAS SON DE AGUA DULCE Y TIENEN FLAGE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LAS DIATOMEAS VIVEN EN TODOS LOS TIPOS DE AGUA Y TIENEN CAPARAZONES DUROS (VALVAS). SIN FLAGE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as unicelulare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TOMEAS y EUGLENAS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36" name="Shape 123" descr=""/>
          <p:cNvPicPr/>
          <p:nvPr/>
        </p:nvPicPr>
        <p:blipFill>
          <a:blip r:embed="rId1"/>
          <a:stretch/>
        </p:blipFill>
        <p:spPr>
          <a:xfrm>
            <a:off x="5143680" y="3905280"/>
            <a:ext cx="3429000" cy="2685960"/>
          </a:xfrm>
          <a:prstGeom prst="rect">
            <a:avLst/>
          </a:prstGeom>
          <a:ln w="0">
            <a:noFill/>
          </a:ln>
        </p:spPr>
      </p:pic>
      <p:sp>
        <p:nvSpPr>
          <p:cNvPr id="437" name="Shape 124"/>
          <p:cNvSpPr/>
          <p:nvPr/>
        </p:nvSpPr>
        <p:spPr>
          <a:xfrm>
            <a:off x="3286080" y="6143760"/>
            <a:ext cx="15717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glena (ver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Shape 125" descr=""/>
          <p:cNvPicPr/>
          <p:nvPr/>
        </p:nvPicPr>
        <p:blipFill>
          <a:blip r:embed="rId2"/>
          <a:stretch/>
        </p:blipFill>
        <p:spPr>
          <a:xfrm>
            <a:off x="571680" y="4286160"/>
            <a:ext cx="2124000" cy="1827360"/>
          </a:xfrm>
          <a:prstGeom prst="rect">
            <a:avLst/>
          </a:prstGeom>
          <a:ln w="0">
            <a:noFill/>
          </a:ln>
        </p:spPr>
      </p:pic>
      <p:sp>
        <p:nvSpPr>
          <p:cNvPr id="439" name="Shape 126"/>
          <p:cNvSpPr/>
          <p:nvPr/>
        </p:nvSpPr>
        <p:spPr>
          <a:xfrm>
            <a:off x="2857680" y="4429080"/>
            <a:ext cx="15001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ATOMEAS (pard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Shape 131" descr=""/>
          <p:cNvPicPr/>
          <p:nvPr/>
        </p:nvPicPr>
        <p:blipFill>
          <a:blip r:embed="rId1"/>
          <a:stretch/>
        </p:blipFill>
        <p:spPr>
          <a:xfrm>
            <a:off x="1643040" y="571680"/>
            <a:ext cx="6072120" cy="54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http://image.slidesharecdn.com/lasbacteriaspresentacion-100511080120-phpapp02/95/las-bacterias-presentacion-3-728.jpg?cb=1273582985"/>
          <p:cNvPicPr/>
          <p:nvPr/>
        </p:nvPicPr>
        <p:blipFill>
          <a:blip r:embed="rId1"/>
          <a:stretch/>
        </p:blipFill>
        <p:spPr>
          <a:xfrm>
            <a:off x="1214280" y="785880"/>
            <a:ext cx="645804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http://image.slidesharecdn.com/lasbacteriaspresentacion-100511080120-phpapp02/95/las-bacterias-presentacion-5-728.jpg?cb=1273582985"/>
          <p:cNvPicPr/>
          <p:nvPr/>
        </p:nvPicPr>
        <p:blipFill>
          <a:blip r:embed="rId1"/>
          <a:stretch/>
        </p:blipFill>
        <p:spPr>
          <a:xfrm>
            <a:off x="857160" y="78588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n 7" descr=""/>
          <p:cNvPicPr/>
          <p:nvPr/>
        </p:nvPicPr>
        <p:blipFill>
          <a:blip r:embed="rId1"/>
          <a:stretch/>
        </p:blipFill>
        <p:spPr>
          <a:xfrm>
            <a:off x="5003640" y="3284640"/>
            <a:ext cx="3600720" cy="337968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6"/>
          <p:cNvSpPr/>
          <p:nvPr/>
        </p:nvSpPr>
        <p:spPr>
          <a:xfrm>
            <a:off x="539640" y="404640"/>
            <a:ext cx="80647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Rockwell Extra Bold"/>
              </a:rPr>
              <a:t>El descubrimiento de la 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Rockwell Extra Bold"/>
              </a:rPr>
              <a:t>En 1665 el científico inglés Robert Hooke observó, con un sencillo microscopio compuesto, una delgada lámina de corcho obtenida de a corteza de un árbol. Hooke describió lo que veía como una estructura semejante a un panal de abejas y denominó “célula” (celdilla) a cada uno de sus pequeños compart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4"/>
          <p:cNvSpPr/>
          <p:nvPr/>
        </p:nvSpPr>
        <p:spPr>
          <a:xfrm>
            <a:off x="539640" y="1051920"/>
            <a:ext cx="766764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30456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Rockwell Extra Bold"/>
              </a:rPr>
              <a:t>La teoría 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A finales del siglo XIX pudo establecerse la teoría celular en términos similares a como hoy la conocemos. Expresado de una forma sencilla, la célula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L a unidad estructural de los seres vivos. Todos están por, al menos, una cél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La unidad funcional. Es capaz de nutrirse, relacionarse y reproduci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La unidad reproductora. No solo es capaz de dar lugar a nuevas células sino que además una célula puede originarse por la división de otra que ya ex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5"/>
          <p:cNvSpPr/>
          <p:nvPr/>
        </p:nvSpPr>
        <p:spPr>
          <a:xfrm>
            <a:off x="755640" y="304200"/>
            <a:ext cx="784872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Rockwell Extra Bold"/>
              </a:rPr>
              <a:t>La célula del siglo 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  <a:ea typeface="Times New Roman"/>
              </a:rPr>
              <a:t>El siglo XX trajo grandes avances en el estudio de la célula, tanto de su estructura interna como de su funcionami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  <a:ea typeface="Times New Roman"/>
              </a:rPr>
              <a:t>El microscopio electrónico: 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  <a:ea typeface="Times New Roman"/>
              </a:rPr>
              <a:t>Fue descubierto en la década de 1930 y, a diferencia del óptico, no utiliza luz sino un chorro de electrones. Como los  electrones no se pueden ver, el microscopio los dirige a una apantalla o una película fotográfica  para crear una imagen vi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Imagen 1" descr=""/>
          <p:cNvPicPr/>
          <p:nvPr/>
        </p:nvPicPr>
        <p:blipFill>
          <a:blip r:embed="rId1"/>
          <a:stretch/>
        </p:blipFill>
        <p:spPr>
          <a:xfrm>
            <a:off x="3708360" y="4105440"/>
            <a:ext cx="48196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39640" y="1193760"/>
            <a:ext cx="795672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1270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Rockwell Extra Bold"/>
              </a:rPr>
              <a:t>Organización jerárquica de la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Niveles de organización de los seres v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Los seres vivos están constituidos por células. Una o muchas células viven juntas e interactúan entre ellas para formar un organismo, y muchos organismos de la misma especie que viven juntos constituyen una pob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Para su estudio, los seres vivos se organizan en diferentes niveles que muestran una jerarquía. De más sencillo a más complej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Imagen 4" descr=""/>
          <p:cNvPicPr/>
          <p:nvPr/>
        </p:nvPicPr>
        <p:blipFill>
          <a:blip r:embed="rId1"/>
          <a:stretch/>
        </p:blipFill>
        <p:spPr>
          <a:xfrm>
            <a:off x="900000" y="0"/>
            <a:ext cx="74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5"/>
          <p:cNvSpPr/>
          <p:nvPr/>
        </p:nvSpPr>
        <p:spPr>
          <a:xfrm>
            <a:off x="539640" y="1197000"/>
            <a:ext cx="777744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Rockwell Extra Bold"/>
              </a:rPr>
              <a:t>Son las únicas que forman un parame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Membrana plasmática:</a:t>
            </a:r>
            <a:r>
              <a:rPr b="1" lang="es-ES" sz="2000" spc="-1" strike="noStrike">
                <a:solidFill>
                  <a:srgbClr val="000000"/>
                </a:solidFill>
                <a:latin typeface="Rockwell Extra Bold"/>
              </a:rPr>
              <a:t> fina capa que separa la célula del exterior y regula la entrada y salida de sustan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Citoplasma:</a:t>
            </a:r>
            <a:r>
              <a:rPr b="1" lang="es-ES" sz="2000" spc="-1" strike="noStrike">
                <a:solidFill>
                  <a:srgbClr val="000000"/>
                </a:solidFill>
                <a:latin typeface="Rockwell Extra Bold"/>
              </a:rPr>
              <a:t> es el contenido cel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Rockwell Extra Bold"/>
                <a:ea typeface="Arial"/>
              </a:rPr>
              <a:t>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Rockwell Extra Bold"/>
                <a:ea typeface="Arial"/>
              </a:rPr>
              <a:t>Hialoplasma</a:t>
            </a:r>
            <a:r>
              <a:rPr b="1" lang="es-ES" sz="2000" spc="-1" strike="noStrike">
                <a:solidFill>
                  <a:srgbClr val="000000"/>
                </a:solidFill>
                <a:latin typeface="Rockwell Extra Bold"/>
                <a:ea typeface="Arial"/>
              </a:rPr>
              <a:t>: es una solución acu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Rockwell Extra Bold"/>
                <a:ea typeface="Arial"/>
              </a:rPr>
              <a:t>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Rockwell Extra Bold"/>
                <a:ea typeface="Arial"/>
              </a:rPr>
              <a:t>Orgánulos</a:t>
            </a:r>
            <a:r>
              <a:rPr b="1" lang="es-ES" sz="2000" spc="-1" strike="noStrike">
                <a:solidFill>
                  <a:srgbClr val="000000"/>
                </a:solidFill>
                <a:latin typeface="Rockwell Extra Bold"/>
                <a:ea typeface="Arial"/>
              </a:rPr>
              <a:t>: membrana que rodea a muchas de las estructuras cel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2484360" y="4762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Rockwell Extra Bold"/>
              </a:rPr>
              <a:t>Células eucari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539640" y="472428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Núcleo: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 está separado del resto con una doble membr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14:05:40Z</dcterms:created>
  <dc:creator>asun</dc:creator>
  <dc:description/>
  <dc:language>en-US</dc:language>
  <cp:lastModifiedBy>Consejería de Educación de la Comunidad de Madrid</cp:lastModifiedBy>
  <dcterms:modified xsi:type="dcterms:W3CDTF">2015-01-23T09:52:21Z</dcterms:modified>
  <cp:revision>76</cp:revision>
  <dc:subject/>
  <dc:title>Diapositiva 1</dc:title>
</cp:coreProperties>
</file>